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570-58D6-47AD-8F9B-6F937441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DB5-FE69-4DE0-B38D-AB670982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E5B-E997-42A9-85F2-F7386BC9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CA7-5ED6-43A7-8F12-256C1E76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DD0-943B-4AFF-911F-3655757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15C-4591-4D6E-B60D-FDD8ABCB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A5F-C88B-46D6-8177-F54E619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F87-9AC6-4634-BB60-86693AB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BAC-58E5-4B57-A2D9-50B3F5F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49E-6A15-48B8-9913-534A12C4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0DA-5759-4FBA-BB7D-D27C629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6B5-4855-40BD-AD84-39DFA39F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7CA-D2A3-46EB-9F8C-3D8B4C2A6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étodo para moldagem e duplicação de peças em resina acrí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 objetivo desse trabalho é duplicar a peça esticadora de corrente, não disponível no mercado, de uma moto importada. Nesse caso só havia disponível uma delas, ainda assim, faltando um pedaç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rá descrita uma  técnica para obtenção de um modelo íntegro para moldagem e confecção de duas réplicas em resina acrílica, a serem instaladas nos lados direito e esquerdo do eixo de roda traz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 mesma técnica pode ser utilizada para duplicar emblemas não disponíveis no mercado, como a PUMA SEN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rgio F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Jun08%2350" descr=""/>
          <p:cNvPicPr/>
          <p:nvPr/>
        </p:nvPicPr>
        <p:blipFill>
          <a:blip r:embed="rId1"/>
          <a:stretch/>
        </p:blipFill>
        <p:spPr>
          <a:xfrm>
            <a:off x="35568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Jun08%2349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04812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mo pode ser observado, acabei o serviço quase de noite, prejudicando qualidade da foto, mas de qualquer forma a técnica ficou regist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Espero ter contribuido para viabilizar a confecção do embl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</a:t>
            </a: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UMA SEN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braço, Sergio F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olli@apcd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étodo para moldagem e duplicação de peças em resina acrí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un08%2344" descr=""/>
          <p:cNvPicPr/>
          <p:nvPr/>
        </p:nvPicPr>
        <p:blipFill>
          <a:blip r:embed="rId1"/>
          <a:stretch/>
        </p:blipFill>
        <p:spPr>
          <a:xfrm>
            <a:off x="279360" y="990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" name="Jun08%2324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038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gura 1: mostra o esticador faltando um terço na parte inf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gura 2: moldagem da metade íntegra da peça, com ALGI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un08%232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Jun08%2326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581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tido o molde da metade íntegra, a peça foi “girada” dentro do molde e o espaço vazio, referente à fratura, foi preenchido com cera para obtermos uma peça inteira, que servirá de padr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un08%232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Jun08%2320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402732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1 mostra o padrão obtido com sua recuperação. O lado de baixo, que tinha encaixes, foi preenchido com cera dura, mais precisa, de cor beje e a parte de cima foi preenchida com cera rosa que tem custo muito mais bai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2 mostra o padrão sendo moldado, desta vez com silicone, pois faremos duas peças no mesmo molde. O alginato poderia ser usado, mas somente uma vez, por ser mais frágil (e bara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un08%2321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Jun08%2322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ndo o silicone, assim como o alginato, bastante flexível, é fácil remover o padrão mold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1: padrão sendo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2: padrão totalmente removido, deixando uma moldagem (negativo) pronta para ser preenchida com resina acri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un08%2330" descr=""/>
          <p:cNvPicPr/>
          <p:nvPr/>
        </p:nvPicPr>
        <p:blipFill>
          <a:blip r:embed="rId1"/>
          <a:stretch/>
        </p:blipFill>
        <p:spPr>
          <a:xfrm>
            <a:off x="2793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Jun08%2332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Jun08%2333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Jun08%2334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resina acrílica é preparada misturando o líquido ao pó. Para dispensar pintura, a coloração foi obtida acrescentando-se pó de grafite à mistu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Jun08%2335" descr=""/>
          <p:cNvPicPr/>
          <p:nvPr/>
        </p:nvPicPr>
        <p:blipFill>
          <a:blip r:embed="rId1"/>
          <a:stretch/>
        </p:blipFill>
        <p:spPr>
          <a:xfrm>
            <a:off x="2793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Jun08%2336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Jun08%2339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mistura tem que ser imediata e rapidamente vertida no mol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988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consistência pode ser controlada com a quantidade de líquido. Sua superfície pode ser alisada com o dedo molhado no próprio líquido da resina. Temperaturas mais altas aceleram a reação. De qualquer maneira, mesmo no frio, o tempo para preencher o molde não é lon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Jun08%2340" descr=""/>
          <p:cNvPicPr/>
          <p:nvPr/>
        </p:nvPicPr>
        <p:blipFill>
          <a:blip r:embed="rId1"/>
          <a:stretch/>
        </p:blipFill>
        <p:spPr>
          <a:xfrm>
            <a:off x="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Jun08%2341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Jun08%2345" descr=""/>
          <p:cNvPicPr/>
          <p:nvPr/>
        </p:nvPicPr>
        <p:blipFill>
          <a:blip r:embed="rId3"/>
          <a:stretch/>
        </p:blipFill>
        <p:spPr>
          <a:xfrm>
            <a:off x="507996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mpletada a reação (exotérmica) a nova peça é removida do mol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05320"/>
            <a:ext cx="4952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ode receber o acabamento necessário com esmeril, lixa, polimento ou pintura, conforme sua necess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bserve a qualidade obtida e a coservação impecável do molde, que será usado novamente para conseguir a segunda peça igual a e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Jun08%2346" descr=""/>
          <p:cNvPicPr/>
          <p:nvPr/>
        </p:nvPicPr>
        <p:blipFill>
          <a:blip r:embed="rId1"/>
          <a:stretch/>
        </p:blipFill>
        <p:spPr>
          <a:xfrm>
            <a:off x="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Jun08%2347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20040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specto final das peças acabadas. Observe também a mesma técnica aplicada para duplicar emblemas da p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Nos emblemas, molda-se a parte externa, e seu verso será plano para ser colado, ou podem ser colocados parafusos espetados no acrilico ainda mole, para que a peça possa ser fixada numa superfície furada, com porca do lado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Nas peças da moto, foi respeitado o lado interno, que encaixava no braço da suspensão, deixando plano seu lado ex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21:48:03Z</dcterms:created>
  <dc:creator>Sergio Folli</dc:creator>
  <dc:description/>
  <dc:language>en-US</dc:language>
  <cp:lastModifiedBy>Sergio Folli</cp:lastModifiedBy>
  <dcterms:modified xsi:type="dcterms:W3CDTF">2003-06-08T23:47:40Z</dcterms:modified>
  <cp:revision>1</cp:revision>
  <dc:subject/>
  <dc:title>Slide sem título </dc:title>
</cp:coreProperties>
</file>